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799E-FC53-4954-9194-8BD2F1240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ED83-4852-4822-863C-495F8888C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73D1-FBAE-49A6-9BEA-7726979F0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D7A6-5B92-4F13-AEBD-7FF2BE5CA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20C6-044D-48FA-B6B0-88D36BC68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EE43-91BC-4A42-8820-DC6C9BDE6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66B7-6D1F-41EE-988C-483BEE8DD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8051-EC60-4E88-A07E-5707AB0C4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C3DB-9CFB-49EE-B551-B77258A6D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96D9-AEEB-4FA1-9369-3C5D580F3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5923-628B-45ED-8EB1-418459E18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67EB-84F7-4BF3-BE1D-833751E56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1F6-5ACF-446C-95FB-28D27B3A83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01qs.com/" TargetMode="External"/><Relationship Id="rId2" Type="http://schemas.openxmlformats.org/officeDocument/2006/relationships/hyperlink" Target="http://www.youtube.com/watch?v=jp_oyHY5bu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cast.com/t/dApzpmm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426-BA45-44EF-AB64-B4D5A8F7F1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101-3373-44A0-9ECF-AB3E71692F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, e.g. numeric or algebraic or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0B18-515F-458C-824C-2A1CF36B47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or 3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1D1-DE56-4ED3-85C5-A04C3EA17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there some you kept moving from category to category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74E-11E5-4267-8E42-2D70C650E9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6F3-BC3F-48CF-ABE2-E23424DF2F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Secondary Math Teacher/Consultant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565C-7BE7-4B13-9729-78F521305A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33F7-C7F8-4452-A813-D1FC1059A6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A51-4E12-4D14-871C-2BE3F482FE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79A-59D3-41DE-BA9B-9606582094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C89-36DA-4F4F-887F-A18147B8B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red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43F5-6044-4351-8F01-36FD55F24D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Program Files\Microsoft Office\MEDIA\OFFICE12\Bullets\BD14691_.gif"/>
          <p:cNvPicPr/>
          <p:nvPr/>
        </p:nvPicPr>
        <p:blipFill>
          <a:blip r:embed="rId1"/>
          <a:stretch/>
        </p:blipFill>
        <p:spPr>
          <a:xfrm>
            <a:off x="838080" y="43480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Program Files\Microsoft Office\MEDIA\OFFICE12\Bullets\BD10264_.gif"/>
          <p:cNvPicPr/>
          <p:nvPr/>
        </p:nvPicPr>
        <p:blipFill>
          <a:blip r:embed="rId2"/>
          <a:stretch/>
        </p:blipFill>
        <p:spPr>
          <a:xfrm>
            <a:off x="8380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A51-41A2-4296-91D8-5A91018D34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7883-0289-41D2-8A9B-6AEA141C0D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D020-50B6-4091-A75F-C836668E0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09T02:26:58Z</dcterms:modified>
  <cp:revision>22</cp:revision>
  <dc:subject/>
  <dc:title>&lt;Title&gt;</dc:title>
</cp:coreProperties>
</file>